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F65-6038-479A-8C49-37A2B1ED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2FC-5951-4795-A241-4FC6003F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A4E-A1FA-4436-A70D-74697F8A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A06-A90E-4548-A913-91F164A5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BDD-D127-47CC-A16A-5B2BF3DF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38E-5509-4DBC-A157-D2F95662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29DC-D5FC-427D-BDF3-96E2491D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72A3-20E7-4A00-97A8-B4BF9D90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CF8E-FC81-480F-89F6-47621C94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D92A-ED06-41DD-9A3B-70D1E7FE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F98A-F698-48B3-89FF-0D80783F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B06-E2EC-4375-8B28-1F79952A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C69-B55D-469A-883F-C66DC015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2119-A2EF-4FAE-B4EF-7EC96899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B3DA-CEBC-454A-9035-F42EEA1C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117A-994B-477F-B8B6-575E0FC9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3B9E-66CC-42CD-AFA0-863F00D5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648-804B-42CB-B4F3-E20DA479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AC2-E289-4D0F-B62A-80B2B15F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97C-EE0C-4271-B9BC-B855D75F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7A2-6895-43D4-91B5-950B9E38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76F-0C9B-458F-9AAB-3E7D6507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D14-948A-4607-A15C-7C3B355D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2E8-0AB8-4EF5-AF2D-2E9AD53F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0464-9C60-4960-8271-4D93A7ED7C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1DA6-BF75-4E6F-893D-7F004F2F3B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otics are the study of robot tecnology, if you wants to enter a cutting edge field that paid well you could become a robotics tech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ed sent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otics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tudy of robot technology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enter a cutting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 field that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ll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could become a robotics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echnici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cus Freewr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/10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you r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 in freezing w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 in warm water where lots of 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have been swimming. (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e what small children do in water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1and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 the following question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Dill’s claim to fa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was Arthur Radley in trouble with the la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id Mrs. Radley run into the street scream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was Arthur locked u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esn’t Boo come out of the house after his father d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is Scout in trouble with the teacher on her first day of scho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is Walter Cunningha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evidence was there that Atticus, in contrast to Miss Caroline, had respect for Walter’s country mann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Atticus mean when he says that professional people are poor because farmers are po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iting about TK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ut explains the Cunningham philosophy of life, which is, “If you don’t have it, you do without.” What is your opinion of the Cunninghams and this philosophy?  1 para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Ch.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4:03:37Z</dcterms:created>
  <dc:creator>Angie</dc:creator>
  <dc:description/>
  <dc:language>en-US</dc:language>
  <cp:lastModifiedBy>Angie</cp:lastModifiedBy>
  <dcterms:modified xsi:type="dcterms:W3CDTF">2009-01-14T04:30:28Z</dcterms:modified>
  <cp:revision>2</cp:revision>
  <dc:subject/>
  <dc:title>DOL</dc:title>
</cp:coreProperties>
</file>